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0.jpeg" ContentType="image/jpeg"/>
  <Override PartName="/ppt/media/image7.wmf" ContentType="image/x-wmf"/>
  <Override PartName="/ppt/media/image19.png" ContentType="image/png"/>
  <Override PartName="/ppt/media/image20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848-8419-4A4E-BE3E-AF5561A1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515-6394-4184-8C09-BBA10BBC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145-9FF4-403A-9DC9-E7B46E83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1B2-FFBA-482B-B8ED-ADF44EB3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C9CB-D8A9-4AF8-A12C-ED62EE5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F3F-7974-4E23-B57E-D3F023F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139F-235C-40F4-820F-0643E2FB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247D-72A3-45A8-8048-A60EA92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C75C-78F6-4D82-90FF-921E151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C25-9F96-4B62-8DCA-BA4C65C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8BB9-FDFC-488F-B2EB-E207555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6AB-C7BC-4819-A635-51C8894D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D9A-54A7-439A-8830-6168BEA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686-93D6-4E7F-93DC-9EF317EC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7E15-6A23-4DCF-88F5-99AA231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958-5B3D-46AF-A5E4-E49C4F2C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BA4-DC82-4DC6-A90A-C2D0592E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31F-E63F-470A-88CB-DDF6C2A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233-7ECF-429B-8E1D-2731C45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256-23B6-4BD4-A2DB-C140372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022-9AFC-483E-A25B-A8D9E70A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DEC-D4F9-4E57-B8D1-6F6EF2A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757-8D30-420D-8317-88791FB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E67-EE32-400B-8C70-FCE2CE5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1D70-0E6D-4FC2-BDDD-AEF1B24C156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008-B9B0-4E91-8B01-2BC1F10C3F0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9140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:  Challenging Se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nts which pressured the federal government to end segregation and ensure vo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5"/>
          <p:cNvGrpSpPr/>
          <p:nvPr/>
        </p:nvGrpSpPr>
        <p:grpSpPr>
          <a:xfrm>
            <a:off x="2309760" y="1143000"/>
            <a:ext cx="3679920" cy="360"/>
            <a:chOff x="2309760" y="1143000"/>
            <a:chExt cx="3679920" cy="360"/>
          </a:xfrm>
        </p:grpSpPr>
        <p:sp>
          <p:nvSpPr>
            <p:cNvPr id="161" name="Rectangle 2"/>
            <p:cNvSpPr/>
            <p:nvPr/>
          </p:nvSpPr>
          <p:spPr>
            <a:xfrm>
              <a:off x="23097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Rectangle 3"/>
            <p:cNvSpPr/>
            <p:nvPr/>
          </p:nvSpPr>
          <p:spPr>
            <a:xfrm>
              <a:off x="23097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63" name="Picture 4" descr="010"/>
          <p:cNvPicPr/>
          <p:nvPr/>
        </p:nvPicPr>
        <p:blipFill>
          <a:blip r:embed="rId1"/>
          <a:stretch/>
        </p:blipFill>
        <p:spPr>
          <a:xfrm>
            <a:off x="2133720" y="609480"/>
            <a:ext cx="5732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A 'Freedom Bus' in flames, six miles southwest of Anniston, Ala., "/>
          <p:cNvPicPr/>
          <p:nvPr/>
        </p:nvPicPr>
        <p:blipFill>
          <a:blip r:embed="rId1"/>
          <a:stretch/>
        </p:blipFill>
        <p:spPr>
          <a:xfrm>
            <a:off x="1600200" y="2133720"/>
            <a:ext cx="7162920" cy="4297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reedom Riders Jimmy McDonald, left, and Hank Thomas and regular passenger Roberta Holmes sit in fro"/>
          <p:cNvPicPr/>
          <p:nvPr/>
        </p:nvPicPr>
        <p:blipFill>
          <a:blip r:embed="rId1"/>
          <a:stretch/>
        </p:blipFill>
        <p:spPr>
          <a:xfrm>
            <a:off x="1447920" y="838080"/>
            <a:ext cx="73152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5"/>
          <p:cNvGrpSpPr/>
          <p:nvPr/>
        </p:nvGrpSpPr>
        <p:grpSpPr>
          <a:xfrm>
            <a:off x="2286000" y="1903320"/>
            <a:ext cx="3679920" cy="360"/>
            <a:chOff x="2286000" y="1903320"/>
            <a:chExt cx="3679920" cy="360"/>
          </a:xfrm>
        </p:grpSpPr>
        <p:sp>
          <p:nvSpPr>
            <p:cNvPr id="168" name="Rectangle 2"/>
            <p:cNvSpPr/>
            <p:nvPr/>
          </p:nvSpPr>
          <p:spPr>
            <a:xfrm>
              <a:off x="2286000" y="190332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2286000" y="190332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0" name="Picture 4" descr="011"/>
          <p:cNvPicPr/>
          <p:nvPr/>
        </p:nvPicPr>
        <p:blipFill>
          <a:blip r:embed="rId1"/>
          <a:stretch/>
        </p:blipFill>
        <p:spPr>
          <a:xfrm>
            <a:off x="1295280" y="685800"/>
            <a:ext cx="7620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KK at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Ku Klux Klansmen beat black bystander George Webb in the Birmingham Trailways station, May 14, 1961."/>
          <p:cNvPicPr/>
          <p:nvPr/>
        </p:nvPicPr>
        <p:blipFill>
          <a:blip r:embed="rId1"/>
          <a:stretch/>
        </p:blipFill>
        <p:spPr>
          <a:xfrm>
            <a:off x="2438280" y="1944720"/>
            <a:ext cx="57150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Kennedy and Civil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pporter of the CR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G RFK help get MLK out of jail after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.   Slow to respond once in office – need Southern Democrats to help pass bil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.   ICC to desegregated interstate buses and termin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843280" y="16812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7" descr="225px-John_F"/>
          <p:cNvPicPr/>
          <p:nvPr/>
        </p:nvPicPr>
        <p:blipFill>
          <a:blip r:embed="rId1"/>
          <a:stretch/>
        </p:blipFill>
        <p:spPr>
          <a:xfrm>
            <a:off x="5486400" y="1981080"/>
            <a:ext cx="332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Meredith &amp; Ole Mi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2608200" y="2678040"/>
            <a:ext cx="3929040" cy="1225440"/>
            <a:chOff x="2608200" y="2678040"/>
            <a:chExt cx="3929040" cy="1225440"/>
          </a:xfrm>
        </p:grpSpPr>
        <p:grpSp>
          <p:nvGrpSpPr>
            <p:cNvPr id="180" name="Group 6"/>
            <p:cNvGrpSpPr/>
            <p:nvPr/>
          </p:nvGrpSpPr>
          <p:grpSpPr>
            <a:xfrm>
              <a:off x="2608200" y="2732040"/>
              <a:ext cx="3929040" cy="1117080"/>
              <a:chOff x="2608200" y="2732040"/>
              <a:chExt cx="3929040" cy="1117080"/>
            </a:xfrm>
          </p:grpSpPr>
          <p:sp>
            <p:nvSpPr>
              <p:cNvPr id="181" name="Rectangle 3"/>
              <p:cNvSpPr/>
              <p:nvPr/>
            </p:nvSpPr>
            <p:spPr>
              <a:xfrm>
                <a:off x="2608200" y="2732040"/>
                <a:ext cx="39290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Rectangle 4"/>
              <p:cNvSpPr/>
              <p:nvPr/>
            </p:nvSpPr>
            <p:spPr>
              <a:xfrm>
                <a:off x="2608200" y="2781000"/>
                <a:ext cx="392904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44280" tIns="17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en-US" sz="87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83" name="Rectangle 7"/>
            <p:cNvSpPr/>
            <p:nvPr/>
          </p:nvSpPr>
          <p:spPr>
            <a:xfrm>
              <a:off x="2608200" y="2678040"/>
              <a:ext cx="3929040" cy="1225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84" name="Picture 5" descr="James Meredith heads to class in 1962, with federal officials."/>
          <p:cNvPicPr/>
          <p:nvPr/>
        </p:nvPicPr>
        <p:blipFill>
          <a:blip r:embed="rId1"/>
          <a:stretch/>
        </p:blipFill>
        <p:spPr>
          <a:xfrm>
            <a:off x="1752480" y="1523880"/>
            <a:ext cx="70106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olence in Birmingham, A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407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ed to get JFK to respon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LK –  “most seg. city in the U.S.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ull Connor, Safety commissioner/mayor candida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ponds with harsh for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levis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nnedy finally acts w/ Civil Rights Acts of 196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Picture 7" descr="Connor as Commissioner of Public Safety. courtesy BPL Archives"/>
          <p:cNvPicPr/>
          <p:nvPr/>
        </p:nvPicPr>
        <p:blipFill>
          <a:blip r:embed="rId2"/>
          <a:stretch/>
        </p:blipFill>
        <p:spPr>
          <a:xfrm>
            <a:off x="5638680" y="2057400"/>
            <a:ext cx="28576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er from M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 guess it is easy for those who have never felt the stinging darts of segregation to say, “Wait.”  But when you have seen hate-filled policemen curse, kick, brutalize and even kill your black brothers and sisters;…when you see the vast majority of your twenty million Negro brothers smothering in the air-tight cage of poverty;…when you have to concoct an answer for a five-year-old son asking:…”Daddy, why do white people treat colored people so mean?”…then you will understand why we find it difficult to wait.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44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1893960" y="1104840"/>
            <a:ext cx="5357880" cy="4648320"/>
            <a:chOff x="1893960" y="1104840"/>
            <a:chExt cx="5357880" cy="4648320"/>
          </a:xfrm>
        </p:grpSpPr>
        <p:sp>
          <p:nvSpPr>
            <p:cNvPr id="194" name="Rectangle 4"/>
            <p:cNvSpPr/>
            <p:nvPr/>
          </p:nvSpPr>
          <p:spPr>
            <a:xfrm>
              <a:off x="1893960" y="11048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1893960" y="1104840"/>
              <a:ext cx="2322360" cy="46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275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96" name="Picture 6" descr="MLK in jail"/>
          <p:cNvPicPr/>
          <p:nvPr/>
        </p:nvPicPr>
        <p:blipFill>
          <a:blip r:embed="rId1"/>
          <a:stretch/>
        </p:blipFill>
        <p:spPr>
          <a:xfrm>
            <a:off x="5638680" y="1981080"/>
            <a:ext cx="2857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814320" y="1125360"/>
            <a:ext cx="91440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2747880" y="1120680"/>
            <a:ext cx="2019240" cy="4748040"/>
            <a:chOff x="2747880" y="1120680"/>
            <a:chExt cx="2019240" cy="4748040"/>
          </a:xfrm>
        </p:grpSpPr>
        <p:grpSp>
          <p:nvGrpSpPr>
            <p:cNvPr id="199" name="Group 8"/>
            <p:cNvGrpSpPr/>
            <p:nvPr/>
          </p:nvGrpSpPr>
          <p:grpSpPr>
            <a:xfrm>
              <a:off x="2752560" y="1125360"/>
              <a:ext cx="2009880" cy="4738680"/>
              <a:chOff x="2752560" y="1125360"/>
              <a:chExt cx="2009880" cy="4738680"/>
            </a:xfrm>
          </p:grpSpPr>
          <p:sp>
            <p:nvSpPr>
              <p:cNvPr id="200" name="Rectangle 7"/>
              <p:cNvSpPr/>
              <p:nvPr/>
            </p:nvSpPr>
            <p:spPr>
              <a:xfrm>
                <a:off x="2752560" y="1125360"/>
                <a:ext cx="2009880" cy="4738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01" name="Group 6"/>
              <p:cNvGrpSpPr/>
              <p:nvPr/>
            </p:nvGrpSpPr>
            <p:grpSpPr>
              <a:xfrm>
                <a:off x="2752560" y="1125360"/>
                <a:ext cx="2009880" cy="4738680"/>
                <a:chOff x="2752560" y="1125360"/>
                <a:chExt cx="2009880" cy="4738680"/>
              </a:xfrm>
            </p:grpSpPr>
            <p:sp>
              <p:nvSpPr>
                <p:cNvPr id="202" name="Rectangle 3"/>
                <p:cNvSpPr/>
                <p:nvPr/>
              </p:nvSpPr>
              <p:spPr>
                <a:xfrm>
                  <a:off x="2752560" y="1125360"/>
                  <a:ext cx="2009880" cy="47386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33"/>
                      </a:solidFill>
                      <a:latin typeface="Arial"/>
                    </a:rPr>
                    <a:t>  </a:t>
                  </a:r>
                  <a:r>
                    <a:rPr b="1" i="1" lang="en-US" sz="25700" spc="-1" strike="noStrike">
                      <a:solidFill>
                        <a:srgbClr val="333333"/>
                      </a:solidFill>
                      <a:latin typeface="Arial"/>
                    </a:rPr>
                    <a:t> </a:t>
                  </a:r>
                  <a:r>
                    <a:rPr b="1" i="1" lang="en-US" sz="2400" spc="-1" strike="noStrike">
                      <a:solidFill>
                        <a:srgbClr val="333333"/>
                      </a:solidFill>
                      <a:latin typeface="Arial"/>
                    </a:rPr>
                    <a:t>                                       </a:t>
                  </a: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"/>
                <p:cNvSpPr/>
                <p:nvPr/>
              </p:nvSpPr>
              <p:spPr>
                <a:xfrm>
                  <a:off x="2752560" y="1125360"/>
                  <a:ext cx="2009880" cy="473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Rectangle 9"/>
            <p:cNvSpPr/>
            <p:nvPr/>
          </p:nvSpPr>
          <p:spPr>
            <a:xfrm>
              <a:off x="2747880" y="1120680"/>
              <a:ext cx="2019240" cy="47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205" name="Picture 4" descr="birmin2"/>
          <p:cNvPicPr/>
          <p:nvPr/>
        </p:nvPicPr>
        <p:blipFill>
          <a:blip r:embed="rId1"/>
          <a:stretch/>
        </p:blipFill>
        <p:spPr>
          <a:xfrm>
            <a:off x="2286000" y="380880"/>
            <a:ext cx="510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 The Sit-i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rted in Greensboro, NC @ Woolworth’s lunch coun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ly college stud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la Baker instrumental in coordinating efforts on a national scale =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835200" y="-222120"/>
            <a:ext cx="7473600" cy="7304040"/>
            <a:chOff x="835200" y="-222120"/>
            <a:chExt cx="7473600" cy="7304040"/>
          </a:xfrm>
        </p:grpSpPr>
        <p:sp>
          <p:nvSpPr>
            <p:cNvPr id="110" name="Rectangle 5"/>
            <p:cNvSpPr/>
            <p:nvPr/>
          </p:nvSpPr>
          <p:spPr>
            <a:xfrm>
              <a:off x="835200" y="-222120"/>
              <a:ext cx="747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1" name="Group 15"/>
            <p:cNvGrpSpPr/>
            <p:nvPr/>
          </p:nvGrpSpPr>
          <p:grpSpPr>
            <a:xfrm>
              <a:off x="835200" y="-222120"/>
              <a:ext cx="7473600" cy="7304040"/>
              <a:chOff x="835200" y="-222120"/>
              <a:chExt cx="7473600" cy="730404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835200" y="-222120"/>
                <a:ext cx="7473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3" name="Group 14"/>
              <p:cNvGrpSpPr/>
              <p:nvPr/>
            </p:nvGrpSpPr>
            <p:grpSpPr>
              <a:xfrm>
                <a:off x="835200" y="-222120"/>
                <a:ext cx="7438680" cy="7304040"/>
                <a:chOff x="835200" y="-222120"/>
                <a:chExt cx="7438680" cy="7304040"/>
              </a:xfrm>
            </p:grpSpPr>
            <p:sp>
              <p:nvSpPr>
                <p:cNvPr id="114" name="Rectangle 7"/>
                <p:cNvSpPr/>
                <p:nvPr/>
              </p:nvSpPr>
              <p:spPr>
                <a:xfrm>
                  <a:off x="835200" y="-222120"/>
                  <a:ext cx="743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Group 13"/>
                <p:cNvGrpSpPr/>
                <p:nvPr/>
              </p:nvGrpSpPr>
              <p:grpSpPr>
                <a:xfrm>
                  <a:off x="835200" y="-222120"/>
                  <a:ext cx="7438680" cy="7304040"/>
                  <a:chOff x="835200" y="-222120"/>
                  <a:chExt cx="7438680" cy="7304040"/>
                </a:xfrm>
              </p:grpSpPr>
              <p:sp>
                <p:nvSpPr>
                  <p:cNvPr id="116" name="Rectangle 8"/>
                  <p:cNvSpPr/>
                  <p:nvPr/>
                </p:nvSpPr>
                <p:spPr>
                  <a:xfrm>
                    <a:off x="835200" y="-222120"/>
                    <a:ext cx="7438680" cy="730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" name="Group 12"/>
                  <p:cNvGrpSpPr/>
                  <p:nvPr/>
                </p:nvGrpSpPr>
                <p:grpSpPr>
                  <a:xfrm>
                    <a:off x="835200" y="-222120"/>
                    <a:ext cx="5204880" cy="360"/>
                    <a:chOff x="835200" y="-222120"/>
                    <a:chExt cx="5204880" cy="360"/>
                  </a:xfrm>
                </p:grpSpPr>
                <p:sp>
                  <p:nvSpPr>
                    <p:cNvPr id="118" name="Rectangle 9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Rectangle 10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0" name="Group 28"/>
          <p:cNvGrpSpPr/>
          <p:nvPr/>
        </p:nvGrpSpPr>
        <p:grpSpPr>
          <a:xfrm>
            <a:off x="835200" y="-222120"/>
            <a:ext cx="7473600" cy="7304040"/>
            <a:chOff x="835200" y="-222120"/>
            <a:chExt cx="7473600" cy="7304040"/>
          </a:xfrm>
        </p:grpSpPr>
        <p:sp>
          <p:nvSpPr>
            <p:cNvPr id="121" name="Rectangle 17"/>
            <p:cNvSpPr/>
            <p:nvPr/>
          </p:nvSpPr>
          <p:spPr>
            <a:xfrm>
              <a:off x="835200" y="-222120"/>
              <a:ext cx="747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2" name="Group 27"/>
            <p:cNvGrpSpPr/>
            <p:nvPr/>
          </p:nvGrpSpPr>
          <p:grpSpPr>
            <a:xfrm>
              <a:off x="835200" y="-222120"/>
              <a:ext cx="7473600" cy="7304040"/>
              <a:chOff x="835200" y="-222120"/>
              <a:chExt cx="7473600" cy="7304040"/>
            </a:xfrm>
          </p:grpSpPr>
          <p:sp>
            <p:nvSpPr>
              <p:cNvPr id="123" name="Rectangle 18"/>
              <p:cNvSpPr/>
              <p:nvPr/>
            </p:nvSpPr>
            <p:spPr>
              <a:xfrm>
                <a:off x="835200" y="-222120"/>
                <a:ext cx="7473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4" name="Group 26"/>
              <p:cNvGrpSpPr/>
              <p:nvPr/>
            </p:nvGrpSpPr>
            <p:grpSpPr>
              <a:xfrm>
                <a:off x="835200" y="-222120"/>
                <a:ext cx="7438680" cy="7304040"/>
                <a:chOff x="835200" y="-222120"/>
                <a:chExt cx="7438680" cy="7304040"/>
              </a:xfrm>
            </p:grpSpPr>
            <p:sp>
              <p:nvSpPr>
                <p:cNvPr id="125" name="Rectangle 19"/>
                <p:cNvSpPr/>
                <p:nvPr/>
              </p:nvSpPr>
              <p:spPr>
                <a:xfrm>
                  <a:off x="835200" y="-222120"/>
                  <a:ext cx="743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25"/>
                <p:cNvGrpSpPr/>
                <p:nvPr/>
              </p:nvGrpSpPr>
              <p:grpSpPr>
                <a:xfrm>
                  <a:off x="835200" y="-222120"/>
                  <a:ext cx="7438680" cy="7304040"/>
                  <a:chOff x="835200" y="-222120"/>
                  <a:chExt cx="7438680" cy="7304040"/>
                </a:xfrm>
              </p:grpSpPr>
              <p:sp>
                <p:nvSpPr>
                  <p:cNvPr id="127" name="Rectangle 20"/>
                  <p:cNvSpPr/>
                  <p:nvPr/>
                </p:nvSpPr>
                <p:spPr>
                  <a:xfrm>
                    <a:off x="835200" y="-222120"/>
                    <a:ext cx="7438680" cy="730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" name="Group 24"/>
                  <p:cNvGrpSpPr/>
                  <p:nvPr/>
                </p:nvGrpSpPr>
                <p:grpSpPr>
                  <a:xfrm>
                    <a:off x="835200" y="-222120"/>
                    <a:ext cx="5204880" cy="360"/>
                    <a:chOff x="835200" y="-222120"/>
                    <a:chExt cx="5204880" cy="360"/>
                  </a:xfrm>
                </p:grpSpPr>
                <p:sp>
                  <p:nvSpPr>
                    <p:cNvPr id="129" name="Rectangle 21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Rectangle 22"/>
                    <p:cNvSpPr/>
                    <p:nvPr/>
                  </p:nvSpPr>
                  <p:spPr>
                    <a:xfrm>
                      <a:off x="835200" y="-222120"/>
                      <a:ext cx="5204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131" name="Picture 23" descr="ella1"/>
          <p:cNvPicPr/>
          <p:nvPr/>
        </p:nvPicPr>
        <p:blipFill>
          <a:blip r:embed="rId1"/>
          <a:stretch/>
        </p:blipFill>
        <p:spPr>
          <a:xfrm>
            <a:off x="5410080" y="4668840"/>
            <a:ext cx="3429000" cy="213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http://tucsoncitizen.com/retroflections/files/2010/02/Greensboro-sit-ins.jpg"/>
          <p:cNvPicPr/>
          <p:nvPr/>
        </p:nvPicPr>
        <p:blipFill>
          <a:blip r:embed="rId2"/>
          <a:stretch/>
        </p:blipFill>
        <p:spPr>
          <a:xfrm>
            <a:off x="5272200" y="167652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[© Bob Adelman]"/>
          <p:cNvPicPr/>
          <p:nvPr/>
        </p:nvPicPr>
        <p:blipFill>
          <a:blip r:embed="rId1"/>
          <a:stretch/>
        </p:blipFill>
        <p:spPr>
          <a:xfrm>
            <a:off x="1828800" y="503280"/>
            <a:ext cx="69022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david_police_hides_hosing_protester"/>
          <p:cNvPicPr/>
          <p:nvPr/>
        </p:nvPicPr>
        <p:blipFill>
          <a:blip r:embed="rId1"/>
          <a:stretch/>
        </p:blipFill>
        <p:spPr>
          <a:xfrm>
            <a:off x="1600200" y="1066680"/>
            <a:ext cx="72198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david_jimcrow_must_go"/>
          <p:cNvPicPr/>
          <p:nvPr/>
        </p:nvPicPr>
        <p:blipFill>
          <a:blip r:embed="rId1"/>
          <a:stretch/>
        </p:blipFill>
        <p:spPr>
          <a:xfrm>
            <a:off x="2690640" y="642960"/>
            <a:ext cx="376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david_girl_arrest_movietheater"/>
          <p:cNvPicPr/>
          <p:nvPr/>
        </p:nvPicPr>
        <p:blipFill>
          <a:blip r:embed="rId1"/>
          <a:stretch/>
        </p:blipFill>
        <p:spPr>
          <a:xfrm>
            <a:off x="1600200" y="990720"/>
            <a:ext cx="721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[© Bill Hudson]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[Birmingham Civil Rights Institute photo]"/>
          <p:cNvPicPr/>
          <p:nvPr/>
        </p:nvPicPr>
        <p:blipFill>
          <a:blip r:embed="rId1"/>
          <a:stretch/>
        </p:blipFill>
        <p:spPr>
          <a:xfrm>
            <a:off x="1447920" y="838080"/>
            <a:ext cx="73911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[AP photo]"/>
          <p:cNvPicPr/>
          <p:nvPr/>
        </p:nvPicPr>
        <p:blipFill>
          <a:blip r:embed="rId1"/>
          <a:stretch/>
        </p:blipFill>
        <p:spPr>
          <a:xfrm>
            <a:off x="1447920" y="685800"/>
            <a:ext cx="7334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[photographer unknown]"/>
          <p:cNvPicPr/>
          <p:nvPr/>
        </p:nvPicPr>
        <p:blipFill>
          <a:blip r:embed="rId1"/>
          <a:stretch/>
        </p:blipFill>
        <p:spPr>
          <a:xfrm>
            <a:off x="1828800" y="533520"/>
            <a:ext cx="6515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 say, segregation now! Segregation tomorrow! Segregation forever!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- George Wallace, Gov. of Alabama, 196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dgar Evers;NAACP, veteran, assassinated by de la Beckwith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s. Kennedy orders Wallace to desegregate U of Al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981160" y="17953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8" name="Picture 7" descr="200px-GeorgeCWallace"/>
          <p:cNvPicPr/>
          <p:nvPr/>
        </p:nvPicPr>
        <p:blipFill>
          <a:blip r:embed="rId1"/>
          <a:stretch/>
        </p:blipFill>
        <p:spPr>
          <a:xfrm>
            <a:off x="5638680" y="1981080"/>
            <a:ext cx="29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File:Wallace at University of Alabama edit2.jpg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udent Nonviolent Coordinating Committee (SN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als:  desegregation and voter registration in rural are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Mississippi Bu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6" descr="SNCC Protesters: Black is not a vice, nor is segregation a virtue."/>
          <p:cNvPicPr/>
          <p:nvPr/>
        </p:nvPicPr>
        <p:blipFill>
          <a:blip r:embed="rId1"/>
          <a:stretch/>
        </p:blipFill>
        <p:spPr>
          <a:xfrm>
            <a:off x="1371600" y="3657600"/>
            <a:ext cx="73357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 March on Washingt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8, 19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al:  to persuade congress to pass Kennedy’s civil rights bil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al education for all/law suits by federal gov’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ttp://www.youtube.com/watch?v=PbUtL_0vAJ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Act of 19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ssed while Pres. LB Johnson in off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llegal to discriminate based on race, religion, national origin, and gender in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employment and public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faciliti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EOC – bans employment discrimination based on race, religion, gender, and national orig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ggle for Voting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ma Campaign (Alabama 1965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0% of population were AA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- Only 3% registered vo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6a6954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oter-registration drive organized in hopes of violent response by whites so that Johnson’s admin. would pass voting ac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y Sunday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bama state troopers attack civil-rights demonstrators outside Selma, Alabama, on Bloody Sunday, March 7, 19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124080" y="24606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9" name="Picture 5" descr="240px-Bloody_Sunday-Alabama_police_attack"/>
          <p:cNvPicPr/>
          <p:nvPr/>
        </p:nvPicPr>
        <p:blipFill>
          <a:blip r:embed="rId1"/>
          <a:stretch/>
        </p:blipFill>
        <p:spPr>
          <a:xfrm>
            <a:off x="2133720" y="2276640"/>
            <a:ext cx="6705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303228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3032280"/>
            <a:ext cx="929808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3" name="Picture 7" descr="File:Bloody Sunday-officers await demonstrators.jpeg"/>
          <p:cNvPicPr/>
          <p:nvPr/>
        </p:nvPicPr>
        <p:blipFill>
          <a:blip r:embed="rId1"/>
          <a:stretch/>
        </p:blipFill>
        <p:spPr>
          <a:xfrm>
            <a:off x="1447920" y="914400"/>
            <a:ext cx="7238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81360" y="202572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31320" bIns="-31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6" name="Picture 5" descr="300px-SelmaHeschelMarch"/>
          <p:cNvPicPr/>
          <p:nvPr/>
        </p:nvPicPr>
        <p:blipFill>
          <a:blip r:embed="rId1"/>
          <a:stretch/>
        </p:blipFill>
        <p:spPr>
          <a:xfrm>
            <a:off x="1905120" y="990720"/>
            <a:ext cx="6705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44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1893960" y="2278080"/>
            <a:ext cx="5357880" cy="2301840"/>
            <a:chOff x="1893960" y="2278080"/>
            <a:chExt cx="5357880" cy="2301840"/>
          </a:xfrm>
        </p:grpSpPr>
        <p:sp>
          <p:nvSpPr>
            <p:cNvPr id="240" name="Rectangle 4"/>
            <p:cNvSpPr/>
            <p:nvPr/>
          </p:nvSpPr>
          <p:spPr>
            <a:xfrm>
              <a:off x="1893960" y="22780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1893960" y="2278080"/>
              <a:ext cx="2322360" cy="23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21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242" name="Picture 6" descr="The Players"/>
          <p:cNvPicPr/>
          <p:nvPr/>
        </p:nvPicPr>
        <p:blipFill>
          <a:blip r:embed="rId1"/>
          <a:stretch/>
        </p:blipFill>
        <p:spPr>
          <a:xfrm>
            <a:off x="1600200" y="1295280"/>
            <a:ext cx="68580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ot rid of literacy tes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gents of the Federal gov’t could register vo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gistered African American voters tripled in the South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Selma = 10-60%/4 yr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.  Voting and discrimination addressed, now on to social and economic equality = poverty issu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Fannie Lou Ha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ailed and beaten for urging AA to register to vo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lped form the Mississippi Freedom Democratic Party (MF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oal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allow more AA as delegates in the Democratic part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*****************************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9" name="Picture 7" descr="988398005"/>
          <p:cNvPicPr/>
          <p:nvPr/>
        </p:nvPicPr>
        <p:blipFill>
          <a:blip r:embed="rId1"/>
          <a:stretch/>
        </p:blipFill>
        <p:spPr>
          <a:xfrm>
            <a:off x="5562720" y="205740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Freedom 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49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.  Began with CORE organiz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2. 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 desegregation ruling on interstate  bus routes and termina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FK makes deal w/Gov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.  no violence in Ms an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.  Riders can be arres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4" descr="TN00561_"/>
          <p:cNvPicPr/>
          <p:nvPr/>
        </p:nvPicPr>
        <p:blipFill>
          <a:blip r:embed="rId1"/>
          <a:stretch/>
        </p:blipFill>
        <p:spPr>
          <a:xfrm>
            <a:off x="5257800" y="2438280"/>
            <a:ext cx="3733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5"/>
          <p:cNvGrpSpPr/>
          <p:nvPr/>
        </p:nvGrpSpPr>
        <p:grpSpPr>
          <a:xfrm>
            <a:off x="2349360" y="1143000"/>
            <a:ext cx="3679920" cy="360"/>
            <a:chOff x="2349360" y="1143000"/>
            <a:chExt cx="3679920" cy="360"/>
          </a:xfrm>
        </p:grpSpPr>
        <p:sp>
          <p:nvSpPr>
            <p:cNvPr id="145" name="Rectangle 2"/>
            <p:cNvSpPr/>
            <p:nvPr/>
          </p:nvSpPr>
          <p:spPr>
            <a:xfrm>
              <a:off x="23493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6" name="Rectangle 3"/>
            <p:cNvSpPr/>
            <p:nvPr/>
          </p:nvSpPr>
          <p:spPr>
            <a:xfrm>
              <a:off x="234936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47" name="Picture 4" descr="001"/>
          <p:cNvPicPr/>
          <p:nvPr/>
        </p:nvPicPr>
        <p:blipFill>
          <a:blip r:embed="rId1"/>
          <a:stretch/>
        </p:blipFill>
        <p:spPr>
          <a:xfrm>
            <a:off x="1782720" y="0"/>
            <a:ext cx="66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5"/>
          <p:cNvGrpSpPr/>
          <p:nvPr/>
        </p:nvGrpSpPr>
        <p:grpSpPr>
          <a:xfrm>
            <a:off x="2286000" y="1897200"/>
            <a:ext cx="3679920" cy="360"/>
            <a:chOff x="2286000" y="1897200"/>
            <a:chExt cx="3679920" cy="360"/>
          </a:xfrm>
        </p:grpSpPr>
        <p:sp>
          <p:nvSpPr>
            <p:cNvPr id="149" name="Rectangle 2"/>
            <p:cNvSpPr/>
            <p:nvPr/>
          </p:nvSpPr>
          <p:spPr>
            <a:xfrm>
              <a:off x="2286000" y="18972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0" name="Rectangle 3"/>
            <p:cNvSpPr/>
            <p:nvPr/>
          </p:nvSpPr>
          <p:spPr>
            <a:xfrm>
              <a:off x="2286000" y="18972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1" name="Picture 4" descr="003"/>
          <p:cNvPicPr/>
          <p:nvPr/>
        </p:nvPicPr>
        <p:blipFill>
          <a:blip r:embed="rId1"/>
          <a:stretch/>
        </p:blipFill>
        <p:spPr>
          <a:xfrm>
            <a:off x="1447920" y="914400"/>
            <a:ext cx="7391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5"/>
          <p:cNvGrpSpPr/>
          <p:nvPr/>
        </p:nvGrpSpPr>
        <p:grpSpPr>
          <a:xfrm>
            <a:off x="2314440" y="1143000"/>
            <a:ext cx="3679920" cy="360"/>
            <a:chOff x="2314440" y="1143000"/>
            <a:chExt cx="3679920" cy="360"/>
          </a:xfrm>
        </p:grpSpPr>
        <p:sp>
          <p:nvSpPr>
            <p:cNvPr id="153" name="Rectangle 2"/>
            <p:cNvSpPr/>
            <p:nvPr/>
          </p:nvSpPr>
          <p:spPr>
            <a:xfrm>
              <a:off x="231444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" name="Rectangle 3"/>
            <p:cNvSpPr/>
            <p:nvPr/>
          </p:nvSpPr>
          <p:spPr>
            <a:xfrm>
              <a:off x="2314440" y="114300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5" name="Picture 4" descr="005"/>
          <p:cNvPicPr/>
          <p:nvPr/>
        </p:nvPicPr>
        <p:blipFill>
          <a:blip r:embed="rId1"/>
          <a:stretch/>
        </p:blipFill>
        <p:spPr>
          <a:xfrm>
            <a:off x="2286000" y="609480"/>
            <a:ext cx="5643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5"/>
          <p:cNvGrpSpPr/>
          <p:nvPr/>
        </p:nvGrpSpPr>
        <p:grpSpPr>
          <a:xfrm>
            <a:off x="2286000" y="1886040"/>
            <a:ext cx="3679920" cy="360"/>
            <a:chOff x="2286000" y="1886040"/>
            <a:chExt cx="3679920" cy="360"/>
          </a:xfrm>
        </p:grpSpPr>
        <p:sp>
          <p:nvSpPr>
            <p:cNvPr id="157" name="Rectangle 2"/>
            <p:cNvSpPr/>
            <p:nvPr/>
          </p:nvSpPr>
          <p:spPr>
            <a:xfrm>
              <a:off x="2286000" y="188604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2286000" y="1886040"/>
              <a:ext cx="3679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9" name="Picture 4" descr="006"/>
          <p:cNvPicPr/>
          <p:nvPr/>
        </p:nvPicPr>
        <p:blipFill>
          <a:blip r:embed="rId1"/>
          <a:stretch/>
        </p:blipFill>
        <p:spPr>
          <a:xfrm>
            <a:off x="1523880" y="1143000"/>
            <a:ext cx="7239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4-11T19:27:45Z</dcterms:modified>
  <cp:revision>19</cp:revision>
  <dc:subject/>
  <dc:title>PowerPoint Presentation</dc:title>
</cp:coreProperties>
</file>